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366-C4A1-497E-86C0-38183886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041-8F1F-401D-8856-1B81191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A6E-4482-4EBC-A478-31468B91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5C7-A1CB-46AA-A1BC-3F143A88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67BB-404D-4845-8179-01AB02F1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A034-608D-4876-BB40-C168097C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159D-BB49-419D-9B60-EF19E87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5F69-9E22-4208-B6A6-75E9B10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935-46A2-4CE0-914B-BFB6612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E65D-930D-49E5-82E9-C858D33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7BEE-1D94-4188-830B-D1FB1DA5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D1A-83CE-465D-8776-CBBCE22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FF7B-4041-4062-912C-5337E87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D725-8919-459C-8382-1C34416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5ADB-DC76-49C0-AAEA-C698994B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F6DE-C5A7-4C50-8DAB-E69105AB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2160-83B4-4F51-8C39-F81DB39B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9001-9402-47CB-BF80-680B825F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F6B1C-5868-4738-BE5B-A6AC2815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6A9E-37EE-4649-91F1-CBADB63F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81E0-8D10-4015-AC49-F5BFBA5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320F-18A9-4F70-B5F0-CFAF856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017-4A90-41FF-BEB5-154BBC72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46C1-E928-43A2-A336-AD6F4ED1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6700-750F-4A51-836D-08BD37DC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7012-0579-41CD-9F69-D467F6AF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39F2-38A6-427A-892B-56E1AD1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A056-CDCE-404A-BD30-D49C65B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6416-5C73-43EE-BADC-2C2CBDDB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7211-BE6B-4A3E-8FFD-6AD590D7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7F6A-19BC-41D9-96FD-00D240D1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595C-91EE-461A-AC40-456D2AA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9F21-267F-4562-A385-231AC9AA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96D-572E-474C-945F-B4D168B2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4F01-3214-4A31-AAE6-7C19612E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62D2-802F-4833-8018-0B691F04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A217-A729-4268-A9AB-2EB328E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3497-6819-40A0-975E-9BBED72A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227F-2503-4B43-AF3C-00D21DA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D117-4D45-4079-94CF-4C97EDCE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5B5D-F5AA-4BB2-9AC5-388C58FA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2550-2C48-4830-B2A7-3545121E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643E-2D35-4D3E-B531-567366F4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F65-1766-47EC-AFE0-0FB5D78E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160-A7F1-4D63-9AFE-70B55B7E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158-1714-4BD5-BE3E-A0F7AC2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6EC-FCED-4B19-867E-2BDABB1B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14C-8C3A-461D-9FD2-1B0C4D0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B66E-0F26-4FB7-8364-9984594EC20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1F3-FF84-4611-B532-87275CBAE59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8271-AD92-491B-BB7F-89BA789046F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F3A4-E0AF-40A9-B18B-7F253AA069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9094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4723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: Малышев А.С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В120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55627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768600" y="533520"/>
            <a:ext cx="78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Дифференциальная диагно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609480" y="158256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крупного рогатого скота оспенные поражения иногда схожи с экзантемой при ящуре, но при ящуре пузыри находятся в ротовой полости и области межкопытной щ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рша и чесотка протекают без лихорадк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пу свиней дифференцируют от сальмонеллеза, стрептококкоза, лептоспироза по отсутствию при этих заболеваниях контагиозности, стадийности, развития кожных пораж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1368360" y="53352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Профилактика и лечени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152280" y="15238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чение. Применение сыворотки реконвалесцентов и гипериммунных животных слабо эффективны. Лучшее действие оказывает у-глобулин. Антибиотики применяют для предупреждения осложнений, оспины на коже размягчают нейтральными жирами, мазями или глицерином, а язвенные поверхности обрабатывают прижигающими средствами (раствор иода), 3—5%-ным раствором хлорамина и другими антисептическими жидкостями. Носовую полость и конъюнктиву промывают теплой водой, орошают 2—3%-ными растворами борной кислоты, настоем ромашки и др. Животным дают воду без ограничений, добавляя в нее иодид кал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ля специфической профилактики применяют гидроокисьалюминиевую формол-вакцину против оспы овец, сухую культуральную вирус-вакцину против оспы овец из штамма НИИС-ХИ, гидроокисьалюминиевую формолглицериновую вакцину против оспы коз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407520" y="533520"/>
            <a:ext cx="88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Ветеринарно-санитарная экспертиз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457200" y="1447920"/>
            <a:ext cx="830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уши крупного рогатого скота, овец, коз, свиней и лошадей при доброкачественной форме оспы и полном заживлении пустул после зачистки измененных отечных тканей выпускают без ограничений после удаления патологически измененных ткан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уши овец, коз, свиней и других животных при сливной геморрагической и гангренозной формах оспы направляют на техническую утилизаци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куры дезинфицирую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ерсть, щетину, волос, козий пух от животных, подозреваемых в заболевании оспой, дезинфицируют текучим паром при 109—11 ГС в течение получаса. Для дезинфекции помещений, оборудования применяют горячий 2%-ный растворедкого натрия, осветленный раствор хлорной извести с 2% активного хлора, 2%-ный раствор формальдеги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4905360" cy="3676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5003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533520" y="914400"/>
            <a:ext cx="807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па - остро протекающая контагиозная болезнь млекопитающих животных и птиц, характеризующаяся лихорадкой и папулезно-пустулезной сыпью в эпителии кожи и слизистых оболочек. Восприимчив и челове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екционную природу болезни установил в 1766 г. Буржеля. Оспу коров описал Э. Дженнер в 1896 г. и предложил вакцину (коровью оспу) для прививки люд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40482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352680" y="685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Возбудител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838080" y="1600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НК-содержащий вирус из сем. Poxviridae, подсем. Chordopoxviridae, имеющий форму куба с округлыми краями размером  170-350 н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62485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533520" y="160020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рус оспы овец устойчив, может сохраняться в темном прохладном месте до 2 лет. Вирус оспы коров жизнеспособен во внешней среде при температуре 4°С до 18 мес, при температуре 20°С — 6 мес. При гниении погибают быстро. Очень чувствителен к высоким температурам — кипячение убивает их моментально, 70°С — за 5 мин, кислая среда (рН 3,0—3,6) — в течение часа, 2—5%-ные растворы серной, соляной и карболовой кислот, 1 %-ные растворы формальдегида и хлорамина, 3%-ный раствор гидроокиси натрия — в течение часа. Биотермическое обезвреживание инфицированного навоза (помета) проводят через 28 дн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2944440" y="38088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Устойчив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2778480" y="53352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Эпизоотолог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609480" y="167652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чение и симптомы. Восприимчивы: овцы, козы, свиньи, крупный рогатый скот, лошади, верблюды, кролики, птиц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точник возбудителя: больные животные и вирусоносит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ти передачи возбудителя инфекции: аэрогенный; через поврежденную кожу и слизистые оболочк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акторы передачи: предметы ухода, корм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кубационный период: 3—14 суто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549080" y="533520"/>
            <a:ext cx="68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Симптомы и пат. изменен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152280" y="122544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мптомы: кратковременное повышение температуры тела, вялость, снижение аппетита, катаральный конъюнктивит, ринит, отеки. У овец — опухание век, гнойно-слизистые истечения из глаз и носа, экзантема на малошерстных участках кожи, розеолы, быстро переходящие в папулы, которые некротизируются; если некроз охватывает глубокие слои кожи — появляются толстые струпья, такие струпья отпадают на 5—6-е сутки. Наиболее тяжелое течение — обширная экзантема, а также геморрагическое истощение, поражение глаз, суставов. Летальность до 100%. У коров — оспины на коже вымени и сосков, иногда головы, шеи, спины, бедер у быков — папулы и везикулы на мошонке. У свиней — розеолы, которые превращаются в папулы, нагнаиваются, некротизируются; оспины, сливаясь, достигают диаметра 2—2,5 см, образуются корочки; при сливной форме летальность 40—80%. У лошадей — папулезно-пустулезный стоматит, везикулярно-пустулезный дерматит, течение благоприятное. У птиц при кожной форме — оспины в области клюва, век, на гребне, сережках и др., при дифтериозной форме — сыпь в виде пленок на слизистой оболочке органов дыхания, у птицы — рот крыт, дыхание со свистящими звук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тологоанатомические изменения. Характерная сыпь на коже и слизистых оболочках. В паренхиматозных органах — участки некроза, селезенка и лимфатические узлы увеличе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6228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4210200" cy="3808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6576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224160" y="5335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Диагно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533520" y="19051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русоскопия мазков, выделение вируса, РН, РДП, метод флюоресцирующих антител, электронная микроскоп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ля микроскопического исследования отбирают содержимое везикул и пустул после предварительной очистки их поверхности спиртом, а также папулы и оспенные корки. Папулы соскабливают скальпелем, корки собирают пинцет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1:10:26Z</dcterms:created>
  <dc:creator>UserLib</dc:creator>
  <dc:description/>
  <dc:language>en-US</dc:language>
  <cp:lastModifiedBy>UserLib</cp:lastModifiedBy>
  <dcterms:modified xsi:type="dcterms:W3CDTF">2013-10-28T11:40:36Z</dcterms:modified>
  <cp:revision>4</cp:revision>
  <dc:subject/>
  <dc:title>ОСПА       </dc:title>
</cp:coreProperties>
</file>